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492-5CE5-48C2-831B-CCC527BF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F16-E469-436D-929B-A712DE0C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ABB-EFA6-4C98-AE67-A03C8F70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076-05D8-4CBA-BE08-1ED497E1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9DB-97DE-4567-B8BB-E7F6BDE8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B028-5856-4E27-AA49-BF513D91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3B2-A28C-478A-8BEC-3B74FD32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DE6D-B009-49FC-8AC0-904D9EF7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560F-95B1-494F-BBF2-A8F25F9D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C329-4ED8-43DC-91DD-F0E8FA17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410-1C5A-48D3-890A-E2FDEC52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26A-9309-4B73-B524-AB169164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0E6E-62E7-4507-8076-FC992FAE3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54864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Floppy Dans Le No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487692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Floppy éclaira derrière l’oreiller, sous la couvertu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À travers sa patte et même dans sa bou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86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fit des ombres chino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’animaux et de mon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morde quand soudain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4267080"/>
            <a:ext cx="815364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L’OBSCURIT</a:t>
            </a:r>
            <a:r>
              <a:rPr b="0" lang="en-US" sz="2200" spc="-1" strike="noStrike">
                <a:solidFill>
                  <a:srgbClr val="ffffff"/>
                </a:solidFill>
                <a:latin typeface="Broadway"/>
                <a:ea typeface="Arial"/>
              </a:rPr>
              <a:t>É!  La lampe de poche s’était éteinte et la Tente n’étaitplus comme avant. Tout sembla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  <a:ea typeface="Arial"/>
              </a:rPr>
              <a:t>différent.  La Nuit était remplie de bruits bizza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  <a:ea typeface="Arial"/>
              </a:rPr>
              <a:t>Le hurlement d’une chouette OUHHH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4403880"/>
            <a:ext cx="8839080" cy="24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Le coassement d’une grenouille, ou était-ce un c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Faistant semblant d’étre une grenouille.  Un grand c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avec des dents comme un renard.  Floppy ne pouva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plus supporter d’en entendre plus, donc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il boucha 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Oreil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228600"/>
            <a:ext cx="891540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Tout à coup, il vut une forme noire et puis une aut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Elles s’approchaient vers lui devenant de plus en 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Grandes.  “Au secours,” chuchota Floppy, “L’ obscur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Va m’attrraper!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33520"/>
            <a:ext cx="4343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Il se jeta de plus s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Les couvertures, m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L’obscurité allait qu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Même l’attr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4648320"/>
            <a:ext cx="69343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AAHHH!”  cria Floppy quand il sort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comme un ouragan de la Tente ressembla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à un monstre du bo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4876920"/>
            <a:ext cx="76201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L’obscurité essaye de m’ attraper,” sanglo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Floppy.  “Ça va maintentant,” Papa le conso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Nous resterons avec toi dans ta tente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30492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L’été était si chaud que les glaces à la carotte sucrée fondaient avant le premier coup de langue.  Pendant la journée, les lapins se rafraichissaient dans I’eau, et la nuit ils dormaient à l’extériur dans des t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6095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Floppy voulait aussi dormir deh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4572000"/>
            <a:ext cx="830592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     “</a:t>
            </a: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Ne vas-tu pas avoir peur tout seul?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demanda Pap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Je ne vais pas avoir peur,” répondit bravement Flopp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5257800"/>
            <a:ext cx="83818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On pouvait faire une tente avec branches solides 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Une vieille converture.  La monter n’était pas fac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Mais Floppy saivait le fai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257800"/>
            <a:ext cx="914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Ne vas-tu  pas avoir peur tout seul?” demanda Mam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Broadway"/>
              </a:rPr>
              <a:t>Je ne vais pas avoir peur,” répodit bravement Flopp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80880"/>
            <a:ext cx="5562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Il allait être bientôt l’heure de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Coucher.  Mamam donna une to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oadway"/>
              </a:rPr>
              <a:t>et BEAUCOUP de baisers à Flopp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4343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C’est l’heure d’un casse-croûte pense Floppy. La caro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Sucrée avait un goû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ifférent sous la 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441972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Floppy mit la cape de son hé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Il était invincible maintenant.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6:57:47Z</dcterms:created>
  <dc:creator>CVJH-LAB</dc:creator>
  <dc:description/>
  <dc:language>en-US</dc:language>
  <cp:lastModifiedBy>nield411</cp:lastModifiedBy>
  <dcterms:modified xsi:type="dcterms:W3CDTF">2008-02-22T21:34:03Z</dcterms:modified>
  <cp:revision>7</cp:revision>
  <dc:subject/>
  <dc:title>Slide 1</dc:title>
</cp:coreProperties>
</file>